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875-1B8D-4E40-9B79-4EC644DE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C39-DB6D-4671-905D-C8BD1F0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218-3852-49C4-866D-2D616C47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927-4210-4741-8FAD-B3CE6579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A718-E4B4-4B4A-AFA2-9A8704D9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9C47-BF75-4FE9-8B86-129A3089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13CD-C65B-40CA-BF0F-656CFD8B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7937-5634-4765-9778-E81A5CB0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D477-779E-4F76-A87B-5AFA2EA5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8B75-A497-406D-8902-E5C3A03E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848F-16C8-4B4E-83C2-7791DBC6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FC8-BF3C-43DE-853C-6D599880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43B6-19FC-485E-B9D2-3BC12EF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ADA-F402-413C-84A1-E4FB8D8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B183-A9DF-4847-82A0-61E3CA7B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8BCF-3060-4356-BD67-FA9241ED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2FB3-AEFF-484B-A96C-27811549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B8C-C873-499D-8DDD-0CDB6BF3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D5C7-3AF2-4269-A111-EF761512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B19-B601-44A7-B31F-7FF4308B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ED7-8D54-470F-ABD7-B270A9DE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AD3-239D-4847-8FBD-0BCAC2A3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63C-2DD2-49D5-BF21-63CCE92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D05-93D3-44F3-A553-FBB21FA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8ED-4F34-4984-809B-EA6FB7D98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15/06/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Gruppo network cultura imprenditoriale e altern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283D-0999-49ED-8D61-FD270D002A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etto Incontrere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artners regiona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N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SERCENTI  Regionale E.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c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agricoltura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ederazione italiana agricoltori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nfcooperative  Emilia-Romag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ga coope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e attivare il serviz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chiesta di attivazione del servizio a Infocamere da parte delle C.C.I.A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focamere abilita come Gestori le Associazioni di categoria interessate in base alle segnalazioni delle C.C.I.A.A. compilando gli appositi modu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richiesto di prevedere la possibilità che le Camere che attivano il servizio abilitino come enti gestori anche le associazioni regionali di categoria, qualora queste lo richiedano e previo accordo con i loro livelli provinci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’ stato chiesto che almeno in una prima fase le Camere, all’atto di attivare il servizio, chiedano a Infocamere di non ammettere la modalità degli annunci indipendenti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i incontri sul terri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alendario di presentazioni del servizio incontrerete presso le sedi delle C.C.I.A.A., con il supporto tecnico dei funzionari di Infocamere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e C.C.I.A.A. individuano una data e il luogo, informano previamente Unioncamere E.R. che avvisa le Associazioni di categoria regionali aderenti al protoc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accolta adesioni da parte delle C.C.I.A.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09:51:21Z</dcterms:created>
  <dc:creator>lenzi</dc:creator>
  <dc:description/>
  <dc:language>en-US</dc:language>
  <cp:lastModifiedBy>lenzi</cp:lastModifiedBy>
  <dcterms:modified xsi:type="dcterms:W3CDTF">2009-06-12T10:14:01Z</dcterms:modified>
  <cp:revision>3</cp:revision>
  <dc:subject/>
  <dc:title>Progetto Incontrerete</dc:title>
</cp:coreProperties>
</file>